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BE1E-3E3B-4CD2-A782-152B274A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254-8898-41A7-80B4-770301BE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FAB-E148-41C0-A0E0-5DEA7F98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A735-0039-455B-8256-9BDA38E6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5D0CD-6EB2-442B-A210-83D448FF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1CC22-631D-4CB3-B6CC-227AF02A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476E9-9F32-4F2F-9929-AE243410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1A34E-B8E8-44E8-8047-8E8301EF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7C087-6385-475E-B5A2-3D55AFC3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36B4C-8319-4977-AB33-966F3FCD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27E44-DFD4-427D-8064-CCA0991D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EC5-E16A-4FEB-A3E0-BCDB7DA6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E33E3-C9D1-42E2-A614-233FEE9F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6A56A-1B24-490F-886D-FCEFA76F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780F3-3417-4E52-937B-861E054A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6794B-1AE0-4DF1-9F4E-1BC7B0B6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0F8A8-BB6C-4144-A780-CF8A6578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70E7-17D0-4E8D-BB1A-79DA2511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FD0-E9FB-4BE7-98CF-B4A7D014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BF8-FEBE-46F7-8937-F9B9BBED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63CF-0B6E-4F8C-BD8E-752BDAD3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745-E908-4344-912D-3BF80285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8A9-AB21-4A8C-AC3E-2502BFEA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C44-43DA-4871-BEE2-486886A5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5F7D-8F62-4547-8AA0-43CEC03F7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0A73-0B2D-471E-B209-54EF0C889B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ellingcity.com/index.php?option=com_spellcity&amp;Itemid=122&amp;task=viewList&amp;listId=354192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ickiblackwell.com/timer.html" TargetMode="External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content.answers.com/main/content/wp/en-commons/thumb/c/c4/300px-Space_Shuttle_Columbia_launching.jpg&amp;imgrefurl=http://www.answers.com/topic/space-shuttle-program&amp;h=346&amp;w=300&amp;sz=29&amp;hl=en&amp;start=1&amp;usg=__bCieDIftf2hAJva51pMbSqdozyA=&amp;tbnid=_17s8W3t4ASfRM:&amp;tbnh=120&amp;tbnw=104&amp;prev=/images?q=space+shuttle&amp;gbv=2&amp;hl=en&amp;sa=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com/imgres?imgurl=http://www.archives.gov/press/press-kits/picturing-the-century-photos/space-shuttle-challenger.jpg&amp;imgrefurl=http://www.archives.gov/press/press-kits/1930-census-photos/&amp;h=3000&amp;w=2383&amp;sz=379&amp;hl=en&amp;start=4&amp;usg=__Vv-bwU5xcPvG1ZEUeCEqWvUscPY=&amp;tbnid=VmBJlLHYko49oM:&amp;tbnh=150&amp;tbnw=119&amp;prev=/images?q=space+shuttle&amp;gbv=2&amp;hl=en&amp;sa=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com/imgres?imgurl=http://www.aerospaceguide.net/spacepictures/shuttle_endeavour.jpg&amp;imgrefurl=http://www.aerospaceguide.net/spaceshuttle/index.html&amp;h=430&amp;w=290&amp;sz=16&amp;hl=en&amp;start=3&amp;usg=__BBnng4XqfFkROibOvy51hdmkGHQ=&amp;tbnid=5YeaaroKZQah4M:&amp;tbnh=126&amp;tbnw=85&amp;prev=/images?q=space+shuttle&amp;gbv=2&amp;hl=en&amp;sa=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google.com/imgres?imgurl=http://www.avsim.com/pages/0905/Canaveral/Nick&apos;s-Space-Shuttle-Landin.jpg&amp;imgrefurl=http://www.avsim.com/pages/0905/Canaveral/Canaveral.htm&amp;h=600&amp;w=800&amp;sz=99&amp;hl=en&amp;start=12&amp;usg=__WGhdxR3bxCPWpQjf03kIfaof8Ac=&amp;tbnid=yKrQEjsqKdQLRM:&amp;tbnh=107&amp;tbnw=143&amp;prev=/images?q=space+shuttle&amp;gbv=2&amp;hl=en&amp;sa=G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google.com/imgres?imgurl=http://www.astro.uva.nl/exhibition/pictures/mooie_gifjes/astronaut.gif&amp;imgrefurl=http://buckdogpolitics.blogspot.com/2007_07_01_archive.html&amp;h=480&amp;w=640&amp;sz=130&amp;hl=en&amp;start=1&amp;usg=__I4MH7Rz7tXnyERgshlBjjRQv9bk=&amp;tbnid=VdRvICE0hSSf5M:&amp;tbnh=103&amp;tbnw=137&amp;prev=/images?q=astronauts&amp;gbv=2&amp;hl=en&amp;sa=X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images.google.com/imgres?imgurl=http://www.nasa.gov/centers/jpl/images/content/110188main_reflec-astronauts-browse.jpg&amp;imgrefurl=http://www.nasa.gov/centers/jpl/news/moon-030405.html&amp;h=540&amp;w=720&amp;sz=72&amp;hl=en&amp;start=8&amp;usg=__mJrYwLil9o7UkovymtjjvEljfMg=&amp;tbnid=E_1MSxrsNzRzbM:&amp;tbnh=105&amp;tbnw=140&amp;prev=/images?q=astronauts&amp;gbv=2&amp;hl=en&amp;sa=X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images.google.com/imgres?imgurl=http://upload.wikimedia.org/wikipedia/commons/e/e7/Astronauts_in_weightlessness.jpg&amp;imgrefurl=http://commons.wikimedia.org/wiki/Image:Astronauts_in_weightlessness.jpg&amp;h=1046&amp;w=1404&amp;sz=1462&amp;hl=en&amp;start=10&amp;usg=__DOMD0-k4tHYYMaIYRnNvOW8O6OQ=&amp;tbnid=2ia5FCvFwKGJVM:&amp;tbnh=112&amp;tbnw=150&amp;prev=/images?q=astronauts&amp;gbv=2&amp;hl=en&amp;sa=X" TargetMode="External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25.xml"/><Relationship Id="rId4" Type="http://schemas.openxmlformats.org/officeDocument/2006/relationships/slide" Target="slide58.xml"/><Relationship Id="rId5" Type="http://schemas.openxmlformats.org/officeDocument/2006/relationships/slide" Target="slide73.xml"/><Relationship Id="rId6" Type="http://schemas.openxmlformats.org/officeDocument/2006/relationships/slide" Target="slide81.xml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y would anyone want to explore space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8" descr="Exploring Spac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743200" y="1752480"/>
            <a:ext cx="38307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905120" y="2819520"/>
          <a:ext cx="6095880" cy="226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5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Picture 10" descr="Exploring Spac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63868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ce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ahoma"/>
              </a:rPr>
              <a:t>a - sc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asce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you go 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tronauts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asce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to space in their space shutt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asce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the second floor when you walk upstai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ce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ahoma"/>
              </a:rPr>
              <a:t>de - sc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desce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you go dow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tronauts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desce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when they come down from space in their space shutt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desce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when you walk downstai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rbi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ahoma"/>
              </a:rPr>
              <a:t>or - b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orb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path of something like a spacecraft or planet around something in space, such as Earth or the su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th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orbi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un, and the moon orbits Ear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watch TV because of the satellites that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orb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Ear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ng Vowels CV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7040" y="137160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these word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a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a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 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 o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 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 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 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 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aking Word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Letter Ti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8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80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 -  </a:t>
            </a:r>
            <a:r>
              <a:rPr b="1" lang="en-US" sz="8000" spc="-1" strike="noStrike">
                <a:solidFill>
                  <a:srgbClr val="ff0000"/>
                </a:solidFill>
                <a:latin typeface="Tahoma"/>
              </a:rPr>
              <a:t>u</a:t>
            </a: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c - d - f - g - l -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n - r - s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1905120"/>
          <a:ext cx="3581640" cy="4495680"/>
        </p:xfrm>
        <a:graphic>
          <a:graphicData uri="http://schemas.openxmlformats.org/drawingml/2006/table">
            <a:tbl>
              <a:tblPr/>
              <a:tblGrid>
                <a:gridCol w="3581640"/>
              </a:tblGrid>
              <a:tr h="44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l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an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ck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917960" y="1905120"/>
          <a:ext cx="3927600" cy="454176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2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ne            cub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ge            blaz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e            ho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           vo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ze             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er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e             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conf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ce            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sp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Talk about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xploratio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in Idea and Detai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top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what a selection is about. 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most important idea about the top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 pieces of information in a selection that tell more about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called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etai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readers look for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help them understand what the whole story is abo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onday’s Fix-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we will fly into spac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600"/>
                </a:solidFill>
                <a:latin typeface="Tahoma"/>
              </a:rPr>
              <a:t>We will fly into space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it will be lots of fu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600"/>
                </a:solidFill>
                <a:latin typeface="Tahoma"/>
              </a:rPr>
              <a:t>It will be lots of f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mall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Tim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ammar:  Subje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ubject of a sentence tells who or what does something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199"/>
                </a:solidFill>
                <a:latin typeface="Tahoma"/>
              </a:rPr>
              <a:t>Neil Armstro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alked on the mo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199"/>
                </a:solidFill>
                <a:latin typeface="Tahoma"/>
              </a:rPr>
              <a:t>The mo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goes around the Eart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the subject of each sentenc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ny wants to be a firefigh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To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nts to be a firefigh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efighters put out fi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Firefight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ut out fi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bje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girl will be an astronau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The gir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will be an astronau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stronauts study spac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Astronaut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study spac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e dreams about spaceship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Sh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dreams about spaceship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bje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y father is a zoologis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My fath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s a zoologis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Zoologists study animal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Zoologist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study animal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y uncle explores the rain fores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My uncl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explores the rain fores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rite a story about a rocket that goes into orbit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18" descr="Exploring Spac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63868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uesd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day we will read about astronauts who explore space.  What do you think it feels like to take off into spac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1" name="Picture 13" descr="Exploring Spac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63868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uesd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day we will read about astronauts who explore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spac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 What do you think it feels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lik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to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tak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off into spac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Picture 9" descr="Exploring Spac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63868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amazing word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 vowels CVC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 ideas and detail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-frequency word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words,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uesd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905120" y="2819520"/>
          <a:ext cx="6095880" cy="226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5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9" descr="Exploring Spac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63868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iver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ahoma"/>
              </a:rPr>
              <a:t>u - ni -ve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univer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made up of Earth, the sun, the moon, and all the other planets and stars in the sk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world is a small part of the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univer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we look at the stars, we think how huge our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univer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ust b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09480" y="1295280"/>
          <a:ext cx="3733920" cy="454212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48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rona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ut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eri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lesco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v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724280" y="1295280"/>
          <a:ext cx="3810240" cy="454212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e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ce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b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niver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ormo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e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un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teor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ormo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ahoma"/>
              </a:rPr>
              <a:t>e – nor - m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hing that is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enorm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very big and hu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Street saw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enorm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louds in the sk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enorm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uilding is so big you can’t see it all at the same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ourne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ahoma"/>
              </a:rPr>
              <a:t>jour - 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journe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long tri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a family drives for several days to go somewhere, they go on a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journe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stronaut goes on a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journe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to sp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ng Vowels CVCe</a:t>
            </a:r>
            <a:br>
              <a:rPr sz="4400"/>
            </a:b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Read these word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 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 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o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 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 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 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 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 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 f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 u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 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ord Reading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Listen to “Race into Space” and pick out the long vowel wor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ce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33412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14600" y="1447920"/>
          <a:ext cx="4343400" cy="4190760"/>
        </p:xfrm>
        <a:graphic>
          <a:graphicData uri="http://schemas.openxmlformats.org/drawingml/2006/table">
            <a:tbl>
              <a:tblPr/>
              <a:tblGrid>
                <a:gridCol w="43434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o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o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chi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verywh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or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w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w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w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w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w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914400" y="2895480"/>
          <a:ext cx="7238880" cy="2925720"/>
        </p:xfrm>
        <a:graphic>
          <a:graphicData uri="http://schemas.openxmlformats.org/drawingml/2006/table">
            <a:tbl>
              <a:tblPr/>
              <a:tblGrid>
                <a:gridCol w="1895400"/>
                <a:gridCol w="1724040"/>
                <a:gridCol w="1809720"/>
                <a:gridCol w="180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shi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w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elling:  Long Vowels CV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 was late when we got hom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 was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lat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hen we got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hom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size of the mic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siz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of the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mic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 vote for the first tim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vot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for the first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tim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in Idea and Detai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top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what a selection is about. 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most important idea about the top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 pieces of information in a selection that tell more about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called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etai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readers look for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help them understand what the whole story is abo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xt Stru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s often us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eading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help readers know what they are going to read about next.  Paying attention to headings and thinking as we read can help us become better read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38080" y="1905120"/>
          <a:ext cx="3276720" cy="445608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445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ck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a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917960" y="1905120"/>
          <a:ext cx="3927600" cy="454176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ne            cub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ge            blaz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e            ho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           vo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ze             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er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e             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conf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ce            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sp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ace Shuttle &amp; Astronau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8240" y="1143000"/>
            <a:ext cx="4267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7960" y="1143000"/>
            <a:ext cx="4267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28240" y="4038120"/>
            <a:ext cx="4267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7960" y="4038120"/>
            <a:ext cx="4267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11" descr="300px-Space_Shuttle_Columbia_launch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143000"/>
            <a:ext cx="2398680" cy="2590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space-shuttle-challeng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1219320"/>
            <a:ext cx="1933560" cy="243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shuttle_endeavou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95480" y="1143000"/>
            <a:ext cx="1697040" cy="2514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Nick%27s-Space-Shuttle-Landin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0" y="1371600"/>
            <a:ext cx="1981080" cy="2111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9" descr="astronaut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8600" y="4267080"/>
            <a:ext cx="2133720" cy="1605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1" descr="110188main_reflec-astronauts-brows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90920" y="4267080"/>
            <a:ext cx="2019240" cy="1514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3" descr="Astronauts_in_weightlessness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876920" y="4267080"/>
            <a:ext cx="2057400" cy="1535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5" descr="Atlantis_astronauts_spacewalk"/>
          <p:cNvPicPr/>
          <p:nvPr/>
        </p:nvPicPr>
        <p:blipFill>
          <a:blip r:embed="rId16"/>
          <a:stretch/>
        </p:blipFill>
        <p:spPr>
          <a:xfrm>
            <a:off x="7238880" y="4191120"/>
            <a:ext cx="159084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High Frequency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om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chi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verywhe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or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ocabulary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strona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a person who goes into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hutt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- vehicle that carries astronauts into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xperi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test to find out some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elescop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an instrument that makes things far away appear to be cl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rav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the natural force that makes everything on Earth move toward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the Space Center we saw an ____ in her spacesu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the Space Center we saw an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strona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her spacesu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ould be fun to float without ____ like she d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ould be fun to float without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grav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ke she d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looked through a ____ to see some sta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looked through a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telescop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see some sta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saw pictures of an ____ in space with plants and roc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saw pictures of an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experim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space with plants and roc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as a huge space ____ parked there to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as a huge space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shutt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rked there to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0" y="3805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uesday’s Fix-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as ho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600"/>
                </a:solidFill>
                <a:latin typeface="Tahoma"/>
              </a:rPr>
              <a:t>The astronaut was hom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he was gone a long time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600"/>
                </a:solidFill>
                <a:latin typeface="Tahoma"/>
              </a:rPr>
              <a:t>She was gone a long time.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:  Subje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ubject of a sentence tells who or what does someth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stronaut goes into sp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n astrona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oes into sp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pace shuttle goes up like a rock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 space shutt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oes up like a rock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uesd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rite about what you would like to see and do in space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Picture 14" descr="Exploring Space"/>
          <p:cNvPicPr/>
          <p:nvPr/>
        </p:nvPicPr>
        <p:blipFill>
          <a:blip r:embed="rId2"/>
          <a:stretch/>
        </p:blipFill>
        <p:spPr>
          <a:xfrm>
            <a:off x="8001000" y="563868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dnesda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066680" y="2209680"/>
          <a:ext cx="6934320" cy="320040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ning Warm-U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 astronaut helps Gloria think that she can do anything she wants to do.  What will Gloria do when she grows up?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dnesda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066680" y="2209680"/>
          <a:ext cx="6934320" cy="320040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ning Warm-U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astronau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helps Gloria think that she can do anything she wants to do.  What will Gloria do when she grows up?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8880" y="990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ig Question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y would anyone want to explore spa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6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amazing word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rt vowel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 vowels CVC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-frequency word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ition words,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dnesd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219320" y="2819520"/>
          <a:ext cx="6095880" cy="226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5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un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ahoma"/>
              </a:rPr>
              <a:t>laun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laun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omething when you get it started or set it go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laun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boat or a plane when we get ready to 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pace shuttle is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launch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hen it starts up and gets into the sk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eori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ahoma"/>
              </a:rPr>
              <a:t>me – te – or - 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meteori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piece of stone from space that hits someth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ceships sometimes are hit by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meteorit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meteorit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hit Earth leave big dents in the grou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ort Vowels Review: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Read these wor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High Frequency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4379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om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chi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verywhe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or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igh-Frequency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tronauts ______ on the space st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cle Andy tells the funniest jokes in the whole _____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ere “out of Order” signs posted on all the snack _____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 he dropped me off at school, Dad drove to _____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m said, “These toys are scattered _____!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wo weeks my best friend Jack will ____ to a different tow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rs. Sage is the ____ in the green dr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ocabulary Words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Position words tell the position of someth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int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insi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hu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space shu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oat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everyw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u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outsi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hu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o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ir wind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ocabulary Words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Position words tell the position of someth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’m holding the book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ov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my head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red book is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besid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the blue boo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re are books all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round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the roo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ednesday’s Fix-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t is a fine day to fly into spac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600"/>
                </a:solidFill>
                <a:latin typeface="Tahoma"/>
              </a:rPr>
              <a:t>It is a fine day to fly into spa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re in the sky no cloud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600"/>
                </a:solidFill>
                <a:latin typeface="Tahoma"/>
              </a:rPr>
              <a:t>No clouds are in the sky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2133720"/>
          <a:ext cx="6095880" cy="34686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4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ronauts fly somewhere into space.  They can fly around our beautiful Earth.  Why would anyone want to explore spac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Rectangle 15"/>
          <p:cNvSpPr/>
          <p:nvPr/>
        </p:nvSpPr>
        <p:spPr>
          <a:xfrm>
            <a:off x="3124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22" descr="Exploring Spac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63868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ammar:  Subje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ubject of a sentence tells who or what does something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ammar:  Subje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ant to be a police officer when I grow 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nt to be a police officer when I grow 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ce officers drive police cars and make the sirens 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olice offic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rive police cars and make the sirens 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ce officers keep us sa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olice offic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keep us sa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dnesd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e position words in sentences about exploring space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3" name="Picture 12" descr="Exploring Space"/>
          <p:cNvPicPr/>
          <p:nvPr/>
        </p:nvPicPr>
        <p:blipFill>
          <a:blip r:embed="rId2"/>
          <a:stretch/>
        </p:blipFill>
        <p:spPr>
          <a:xfrm>
            <a:off x="8077320" y="563868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ursda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day we’ll read about kids going to space camp.  They find out how it feels to be up in space.  What do you think being in space camp is lik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ursda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day we’ll read about kids going </a:t>
                      </a: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to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space camp.  They find out how it feels to be </a:t>
                      </a: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u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space.  What do you think being </a:t>
                      </a: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space camp is lik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 vowels CVC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s,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sons for liste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ntence Rea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jacket is somewhere, but I cannot find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know someone who has a long nose on his f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friend has nine mice in a huge c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can drive his nice car in the count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cent in my pocket will not get a beautiful gem for M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at at the front of the rink to see them skate on 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Thursday’s Fix-I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as late for the soccer gam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600"/>
                </a:solidFill>
                <a:latin typeface="Tahoma"/>
              </a:rPr>
              <a:t>He was late for the soccer gam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ey missed the first go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600"/>
                </a:solidFill>
                <a:latin typeface="Tahoma"/>
              </a:rPr>
              <a:t>They missed the first goal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199"/>
                </a:solidFill>
                <a:latin typeface="Tahoma"/>
              </a:rPr>
              <a:t>Choose the subject in each sente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go to a big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o to a big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kids are 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a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ki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teacher’s name is Mr. Hu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Our teacher’s na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Mr. Hu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plays soccer with us during rec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lays soccer with us during rec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. Hunt can kick a soccer ball very f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r. Hu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kick a soccer ball very f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ople listen for several different reasons.  Why do we list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listen to hear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listen to hear other people’s ide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listen for enjoyment and appreci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listen for inform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00200" y="2133720"/>
          <a:ext cx="6095880" cy="34686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4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ronauts fly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somewher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into space.  They can fly around our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beautiful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Earth.  Why would anyone want to explore spac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9"/>
          <p:cNvSpPr/>
          <p:nvPr/>
        </p:nvSpPr>
        <p:spPr>
          <a:xfrm>
            <a:off x="3124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0" descr="Exploring Spac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63868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ursda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st things that c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end and descend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9" name="Picture 11" descr="Exploring Space"/>
          <p:cNvPicPr/>
          <p:nvPr/>
        </p:nvPicPr>
        <p:blipFill>
          <a:blip r:embed="rId2"/>
          <a:stretch/>
        </p:blipFill>
        <p:spPr>
          <a:xfrm>
            <a:off x="8077320" y="563868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rida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is week we read about people who want to explore space.  What do real astronauts do in spac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mazing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362320" y="22096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c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b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orm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ur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un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eor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ng Vowels CVCe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d these sentenc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lice of cake is n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l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ak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 you erase the note on the p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 you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ra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o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n th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ill make a space in the cage for the m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ill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k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pa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h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or th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ule has a huge white no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u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s a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u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i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o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live, world, work, machines, everywhere, woman, mo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es he drive his car to _____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es he drive his car to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s this bench made by people or ___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s this bench made by people or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machin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is that ____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is that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om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d they ____ to a new hom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d they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mov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a new hom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es your family ___ next door to Jo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es your family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liv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ext door to Jo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big is our _____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big is our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orl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you looked ____ for the lost pup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you looked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everywhe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or the lost pup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riday’s Fix-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That space suit is not my siz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600"/>
                </a:solidFill>
                <a:latin typeface="Tahoma"/>
              </a:rPr>
              <a:t>That space suit is not my size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my friend it will fit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600"/>
                </a:solidFill>
                <a:latin typeface="Tahoma"/>
              </a:rPr>
              <a:t>It will fit my friend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rida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rite about children wh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end into space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1" name="Picture 11" descr="Exploring Space"/>
          <p:cNvPicPr/>
          <p:nvPr/>
        </p:nvPicPr>
        <p:blipFill>
          <a:blip r:embed="rId2"/>
          <a:stretch/>
        </p:blipFill>
        <p:spPr>
          <a:xfrm>
            <a:off x="8077320" y="556272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ew Ga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ocabulary &amp; Amazing Word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igw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pelling Word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Quia G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pelling 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 Frequency Word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t Potatoes (fill-in-the-blan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 are now ready to take our story test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133360" y="19051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z # 90460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ditional Resourc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di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pound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re Compound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isten to Fab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amazing word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 vowels CVC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 ideas and details,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09:08:13Z</dcterms:modified>
  <cp:revision>14</cp:revision>
  <dc:subject/>
  <dc:title>Slide 1</dc:title>
</cp:coreProperties>
</file>